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geschluc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uf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as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m Dar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atul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0840" y="549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atul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geschluc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uf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schnel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60480" y="54936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atulenz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geschluckt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Luf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9040" y="549360"/>
            <a:ext cx="74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latulenz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geschluckt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Luft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Obstruktion der 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hin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s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xparaly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iozephalen-Syndrom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produ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Dar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rate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bildner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7" idx="3"/>
            <a:endCxn id="11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1" name=""/>
          <p:cNvCxnSpPr>
            <a:stCxn id="117" idx="3"/>
            <a:endCxn id="11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869400" y="54936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latul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Gasproduktion im Dar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rate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3400" y="54936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atul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Gasproduktion im Darm ↑ &gt; Substrate für Gas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ütterung von Milch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verdorben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ut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sbildner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4840" y="549360"/>
            <a:ext cx="68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atulenz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Gasproduktion im Darm ↑ &gt; Gasbildner im Dar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Überwucherung mit gasbild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akterien/Hef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08:55:29Z</dcterms:modified>
  <cp:revision>329</cp:revision>
  <dc:subject/>
  <dc:title>Vorstellung einer Neuheit</dc:title>
</cp:coreProperties>
</file>